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5.jpeg" ContentType="image/jpeg"/>
  <Override PartName="/ppt/media/image20.wmf" ContentType="image/x-wmf"/>
  <Override PartName="/ppt/media/image7.png" ContentType="image/png"/>
  <Override PartName="/ppt/media/image8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5.png" ContentType="image/png"/>
  <Override PartName="/ppt/media/image2.gif" ContentType="image/gif"/>
  <Override PartName="/ppt/media/image28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19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292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4920" cy="353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292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0139270-A19E-4F30-99AA-46BF37C88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B08A50E-7AEE-4422-B1FC-619D127C1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9C05A5F-817D-49FB-BDD0-679C33237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D0C1272-EDCB-41E5-8801-4F7F0ED54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B3331F9-41E4-406C-98E7-DA4F3F88E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ADE4092-AEB6-43D5-8B58-861199124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91717F6-9709-4BB4-8FCC-17F52FCB0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C69A86-45DA-40B3-B308-F0CBC6EF2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9853A4C-43C6-411E-88E9-452FE594B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5FE615D-386C-43C9-81A7-12394F72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3ED5D24-2A17-4EDD-814E-8F2AACD11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59D5144-C121-40DC-A4FE-80849350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B6F80F8-A65F-4A22-AC22-7057B88BE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35BBCEB-10AF-4C2F-B40D-51741FB47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6F45624-37D0-4262-9AB3-9DF67CC6C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48785BF-FCB6-4413-B52D-4DF7B8B8A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editerranean climate makes farming convenient and i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EA739DE-9938-4C03-91CC-DFF8C0C13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B067C2C-9B5D-4279-A90A-3CBD83A30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D8FDC65-B38A-4520-A247-1B13909D7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EBA-043B-4A90-A924-4F72F67F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93F-FDF1-425B-9D80-E0170FBE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54E-702F-4075-A992-B67E092C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A3B-1258-4DA8-8B64-B527003E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AF2-507F-4F45-AD6B-358982EA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34A-8537-42BE-81CB-33D3EC72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C67-62DE-4644-81DE-EA692045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A5F-A307-45AD-AFDB-88D602C9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F74-4D3A-4A61-B105-5A1A41D8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361-6E6E-4113-9419-3B0BD102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903-7D55-427E-8CAB-340BA1A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9E1-9D82-4735-9057-8F13468D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7844-21A3-4295-8B57-213BB8C7C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5800" y="1523880"/>
            <a:ext cx="7696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Castellar"/>
              </a:rPr>
              <a:t>Rome: From Village to Empire</a:t>
            </a:r>
            <a:endParaRPr b="1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838080" y="457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like the Athenians, who ha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ticipato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mocracy, the Romans establishe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present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mocracy, or,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U S Capitol Building"/>
          <p:cNvPicPr/>
          <p:nvPr/>
        </p:nvPicPr>
        <p:blipFill>
          <a:blip r:embed="rId1"/>
          <a:stretch/>
        </p:blipFill>
        <p:spPr>
          <a:xfrm>
            <a:off x="838080" y="2630520"/>
            <a:ext cx="2133720" cy="1373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85640" y="4338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USA, France or Ita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0" descr="http://t3.gstatic.com/images?q=tbn:ANd9GcSlod6tgjLkGhs-UDE7lcdbkjp7uAHN7oOxv_v4BXEVE-pKw1SBWA"/>
          <p:cNvPicPr/>
          <p:nvPr/>
        </p:nvPicPr>
        <p:blipFill>
          <a:blip r:embed="rId2"/>
          <a:stretch/>
        </p:blipFill>
        <p:spPr>
          <a:xfrm>
            <a:off x="3252960" y="1773360"/>
            <a:ext cx="2790720" cy="163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http://www.sitographics.com/enciclog/banderas/escudos/image/repubblica_italiana__35917.jpg"/>
          <p:cNvPicPr/>
          <p:nvPr/>
        </p:nvPicPr>
        <p:blipFill>
          <a:blip r:embed="rId3"/>
          <a:stretch/>
        </p:blipFill>
        <p:spPr>
          <a:xfrm>
            <a:off x="6238800" y="1644480"/>
            <a:ext cx="2457360" cy="2857680"/>
          </a:xfrm>
          <a:prstGeom prst="rect">
            <a:avLst/>
          </a:prstGeom>
          <a:ln w="0">
            <a:noFill/>
          </a:ln>
        </p:spPr>
      </p:pic>
      <p:sp>
        <p:nvSpPr>
          <p:cNvPr id="85" name="1 CuadroTexto"/>
          <p:cNvSpPr/>
          <p:nvPr/>
        </p:nvSpPr>
        <p:spPr>
          <a:xfrm>
            <a:off x="685800" y="5886360"/>
            <a:ext cx="75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ublic comes from the Latin phras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s public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public affairs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er rests with the citizens who have the right to vote for their lead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295280" y="6858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Roman Social Structure in the Republ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1905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atrici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wealthy landowners and office-hold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2120" y="3124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lebei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farmers, artisans, traders…could vote but not hold political offi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838080" y="47242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Sla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mostly prisoners of war…not citizens…no righ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1 CuadroTexto"/>
          <p:cNvSpPr/>
          <p:nvPr/>
        </p:nvSpPr>
        <p:spPr>
          <a:xfrm>
            <a:off x="457200" y="6172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tricians and Plebeians struggled for power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ebeians outnumbered Patricia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90920" y="914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Rom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Relig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438280" y="2286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theistic: belief in more than one g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438280" y="279864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rbed gods of others…including the Gree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438280" y="3670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ts of public festiva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1 CuadroTexto"/>
          <p:cNvSpPr/>
          <p:nvPr/>
        </p:nvSpPr>
        <p:spPr>
          <a:xfrm>
            <a:off x="876240" y="519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st important Roman gods/goddesses were Jupiter (father of gods), Juno (watched over women) &amp; Minerva (goddess of wisdom &amp; art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time, worship of emperors also became part of the official religion of Rom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95280" y="609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Roman Wome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981080" y="2057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ed just like bo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981080" y="32004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ote, but could testify in cou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981080" y="4343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ined property righ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981080" y="5410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influence in family than Greek wom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99072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1 BCE: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First Roman Law C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0" y="2362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ELVE carved stone table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Ten Commandments Tablets"/>
          <p:cNvPicPr/>
          <p:nvPr/>
        </p:nvPicPr>
        <p:blipFill>
          <a:blip r:embed="rId1"/>
          <a:stretch/>
        </p:blipFill>
        <p:spPr>
          <a:xfrm>
            <a:off x="762120" y="3200400"/>
            <a:ext cx="4114800" cy="3030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4876920" y="3200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ak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Moses!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600200" y="5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2860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THE TWELVE T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1 CuadroTexto"/>
          <p:cNvSpPr/>
          <p:nvPr/>
        </p:nvSpPr>
        <p:spPr>
          <a:xfrm>
            <a:off x="5257800" y="503064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g victory for the plebeia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welve Tables established the idea that all free citizens had the right to the protection of the la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Roman map 2  380 BC"/>
          <p:cNvPicPr/>
          <p:nvPr/>
        </p:nvPicPr>
        <p:blipFill>
          <a:blip r:embed="rId1"/>
          <a:stretch/>
        </p:blipFill>
        <p:spPr>
          <a:xfrm>
            <a:off x="3733920" y="304920"/>
            <a:ext cx="4762440" cy="6257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838080" y="152388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dually, the Romans began to expand their control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143000" y="685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they had conquered the entire Italian peninsula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s the islands of Corsica, Sardinia and Sici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Roman map 3  220BC"/>
          <p:cNvPicPr/>
          <p:nvPr/>
        </p:nvPicPr>
        <p:blipFill>
          <a:blip r:embed="rId1"/>
          <a:stretch/>
        </p:blipFill>
        <p:spPr>
          <a:xfrm>
            <a:off x="457200" y="2209680"/>
            <a:ext cx="830592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028" descr="Roman road 1"/>
          <p:cNvPicPr/>
          <p:nvPr/>
        </p:nvPicPr>
        <p:blipFill>
          <a:blip r:embed="rId1"/>
          <a:stretch/>
        </p:blipFill>
        <p:spPr>
          <a:xfrm>
            <a:off x="533520" y="304920"/>
            <a:ext cx="4343400" cy="298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29" descr="Roman Road 2"/>
          <p:cNvPicPr/>
          <p:nvPr/>
        </p:nvPicPr>
        <p:blipFill>
          <a:blip r:embed="rId2"/>
          <a:stretch/>
        </p:blipFill>
        <p:spPr>
          <a:xfrm>
            <a:off x="4343400" y="3657600"/>
            <a:ext cx="4191120" cy="2455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30"/>
          <p:cNvSpPr/>
          <p:nvPr/>
        </p:nvSpPr>
        <p:spPr>
          <a:xfrm>
            <a:off x="5715000" y="1066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they expanded their control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1"/>
          <p:cNvSpPr/>
          <p:nvPr/>
        </p:nvSpPr>
        <p:spPr>
          <a:xfrm>
            <a:off x="838080" y="43434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mans built an excellent network of roa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1 CuadroTexto"/>
          <p:cNvSpPr/>
          <p:nvPr/>
        </p:nvSpPr>
        <p:spPr>
          <a:xfrm>
            <a:off x="88920" y="6172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ads were initially built by and for the military, but helped with trade and communication at large as the republic and then empire gre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Roman Road Construction"/>
          <p:cNvPicPr/>
          <p:nvPr/>
        </p:nvPicPr>
        <p:blipFill>
          <a:blip r:embed="rId1"/>
          <a:stretch/>
        </p:blipFill>
        <p:spPr>
          <a:xfrm>
            <a:off x="228600" y="2590920"/>
            <a:ext cx="861048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3623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e’s how they built the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828800" y="3049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road system is one of the Romans’ greatest achiev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057400" y="6095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you think they built them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Roman Roads Map of Empire"/>
          <p:cNvPicPr/>
          <p:nvPr/>
        </p:nvPicPr>
        <p:blipFill>
          <a:blip r:embed="rId1"/>
          <a:stretch/>
        </p:blipFill>
        <p:spPr>
          <a:xfrm>
            <a:off x="1523880" y="1295280"/>
            <a:ext cx="60199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457200" y="685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750 BCE: Latins (tribe) settle what becomes 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Italy-Map showing only Rome"/>
          <p:cNvPicPr/>
          <p:nvPr/>
        </p:nvPicPr>
        <p:blipFill>
          <a:blip r:embed="rId1"/>
          <a:stretch/>
        </p:blipFill>
        <p:spPr>
          <a:xfrm>
            <a:off x="2387520" y="1438200"/>
            <a:ext cx="3909960" cy="3962520"/>
          </a:xfrm>
          <a:prstGeom prst="rect">
            <a:avLst/>
          </a:prstGeom>
          <a:ln w="0">
            <a:noFill/>
          </a:ln>
        </p:spPr>
      </p:pic>
      <p:sp>
        <p:nvSpPr>
          <p:cNvPr id="51" name="1 CuadroTexto"/>
          <p:cNvSpPr/>
          <p:nvPr/>
        </p:nvSpPr>
        <p:spPr>
          <a:xfrm>
            <a:off x="6477120" y="4267080"/>
            <a:ext cx="12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53 B.C. – legend says that Rome was founded by Romulus and Remus (Latin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29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Right! The Roman Road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30"/>
          <p:cNvSpPr/>
          <p:nvPr/>
        </p:nvSpPr>
        <p:spPr>
          <a:xfrm>
            <a:off x="1981080" y="20574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wed easy military trans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31"/>
          <p:cNvSpPr/>
          <p:nvPr/>
        </p:nvSpPr>
        <p:spPr>
          <a:xfrm>
            <a:off x="1981080" y="31240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abled trade and commer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32"/>
          <p:cNvSpPr/>
          <p:nvPr/>
        </p:nvSpPr>
        <p:spPr>
          <a:xfrm>
            <a:off x="1905120" y="4267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ed unify expanding Roman territor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066680" y="5335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 to Roman expansion…who do you think would be a likely rival for control of the Mediterranean Se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Roman map 3  220BC"/>
          <p:cNvPicPr/>
          <p:nvPr/>
        </p:nvPicPr>
        <p:blipFill>
          <a:blip r:embed="rId1"/>
          <a:stretch/>
        </p:blipFill>
        <p:spPr>
          <a:xfrm>
            <a:off x="457200" y="2057400"/>
            <a:ext cx="81532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143000" y="533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Right again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809880" y="9144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Carthage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Roman map 3  220BC"/>
          <p:cNvPicPr/>
          <p:nvPr/>
        </p:nvPicPr>
        <p:blipFill>
          <a:blip r:embed="rId1"/>
          <a:stretch/>
        </p:blipFill>
        <p:spPr>
          <a:xfrm>
            <a:off x="457200" y="1752480"/>
            <a:ext cx="83818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914400" y="25884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264-146 BCE the Romans fought three wars with Carthage, known as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stellar"/>
              </a:rPr>
              <a:t>Punic Wars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AN02321_"/>
          <p:cNvPicPr/>
          <p:nvPr/>
        </p:nvPicPr>
        <p:blipFill>
          <a:blip r:embed="rId1"/>
          <a:stretch/>
        </p:blipFill>
        <p:spPr>
          <a:xfrm>
            <a:off x="6159600" y="1828800"/>
            <a:ext cx="2347920" cy="1668600"/>
          </a:xfrm>
          <a:prstGeom prst="rect">
            <a:avLst/>
          </a:prstGeom>
          <a:ln w="0">
            <a:noFill/>
          </a:ln>
        </p:spPr>
      </p:pic>
      <p:sp>
        <p:nvSpPr>
          <p:cNvPr id="133" name="1 CuadroTexto"/>
          <p:cNvSpPr/>
          <p:nvPr/>
        </p:nvSpPr>
        <p:spPr>
          <a:xfrm>
            <a:off x="609480" y="42670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4-146 BC – control of Sicily and the western Mediterranea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8-202 BC – Hannibal attempts to seize Rome – loses ½ men and most of his elephants AND then Roman general Scipio attacks Carthage (or close by…Zama) and defeats Hannibal, who commits suicide instead of being captu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9-146 BC – Rome laid siege to Carthage – city set to fire and its 50,000 inhabitants were sold into slavery – territory was made a Roman provi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28" descr="http://www.hobbygalan.com/ficheros/thum/thum_thum_pop_foto_5688jpg.jpg"/>
          <p:cNvPicPr/>
          <p:nvPr/>
        </p:nvPicPr>
        <p:blipFill>
          <a:blip r:embed="rId2"/>
          <a:stretch/>
        </p:blipFill>
        <p:spPr>
          <a:xfrm>
            <a:off x="168120" y="1257480"/>
            <a:ext cx="42516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523880" y="609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e won…and went on to conquer the rest of the Mediterranean wor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Roman map 4  86 BC"/>
          <p:cNvPicPr/>
          <p:nvPr/>
        </p:nvPicPr>
        <p:blipFill>
          <a:blip r:embed="rId1"/>
          <a:stretch/>
        </p:blipFill>
        <p:spPr>
          <a:xfrm>
            <a:off x="1371600" y="1523880"/>
            <a:ext cx="6629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1 CuadroTexto"/>
          <p:cNvSpPr/>
          <p:nvPr/>
        </p:nvSpPr>
        <p:spPr>
          <a:xfrm>
            <a:off x="101520" y="60768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y 70 BC, Rome’s Mediterranean empire spread from Anatolia in the east to Spain in the wes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Roman map 5  74 BC"/>
          <p:cNvPicPr/>
          <p:nvPr/>
        </p:nvPicPr>
        <p:blipFill>
          <a:blip r:embed="rId1"/>
          <a:stretch/>
        </p:blipFill>
        <p:spPr>
          <a:xfrm>
            <a:off x="1028880" y="714240"/>
            <a:ext cx="7086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Roman map 6  52 BC"/>
          <p:cNvPicPr/>
          <p:nvPr/>
        </p:nvPicPr>
        <p:blipFill>
          <a:blip r:embed="rId1"/>
          <a:stretch/>
        </p:blipFill>
        <p:spPr>
          <a:xfrm>
            <a:off x="685800" y="152280"/>
            <a:ext cx="7086600" cy="5429520"/>
          </a:xfrm>
          <a:prstGeom prst="rect">
            <a:avLst/>
          </a:prstGeom>
          <a:ln w="0">
            <a:noFill/>
          </a:ln>
        </p:spPr>
      </p:pic>
      <p:sp>
        <p:nvSpPr>
          <p:cNvPr id="140" name="1 CuadroTexto"/>
          <p:cNvSpPr/>
          <p:nvPr/>
        </p:nvSpPr>
        <p:spPr>
          <a:xfrm>
            <a:off x="584280" y="571500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iumvirate (Julius Caesar, Crassus, Pompey) – success in Gaul made JC very popular with the people of Rome – Pompey and Crassus don’t like the power that JC is retain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6 BC – JC returns to Rome and named dictator for life – senators (Marcus Brutus and Gaius Cassius) plotted his assassination in 44 B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Roman map 7  40 BC"/>
          <p:cNvPicPr/>
          <p:nvPr/>
        </p:nvPicPr>
        <p:blipFill>
          <a:blip r:embed="rId1"/>
          <a:stretch/>
        </p:blipFill>
        <p:spPr>
          <a:xfrm>
            <a:off x="1028880" y="228600"/>
            <a:ext cx="6972120" cy="5029200"/>
          </a:xfrm>
          <a:prstGeom prst="rect">
            <a:avLst/>
          </a:prstGeom>
          <a:ln w="0">
            <a:noFill/>
          </a:ln>
        </p:spPr>
      </p:pic>
      <p:sp>
        <p:nvSpPr>
          <p:cNvPr id="142" name="1 CuadroTexto"/>
          <p:cNvSpPr/>
          <p:nvPr/>
        </p:nvSpPr>
        <p:spPr>
          <a:xfrm>
            <a:off x="152280" y="5294160"/>
            <a:ext cx="8991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riumvirate – Octavian (JC’s nephew), Mark Antony &amp; Lepidus – 43 BC took control of Rome and ruled for 10 yea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iance ended in jealousy &amp; violence – eventually Octavian  accepted title of Augustus (“exalted one”) and ruled empire as one man!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w, Rome is an EMPIRE – Augustus retained title of IMPERATOR (supreme military commander) – a term from which emperor was deriv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Roman map 12 25 BC-out of order"/>
          <p:cNvPicPr/>
          <p:nvPr/>
        </p:nvPicPr>
        <p:blipFill>
          <a:blip r:embed="rId1"/>
          <a:stretch/>
        </p:blipFill>
        <p:spPr>
          <a:xfrm>
            <a:off x="1028880" y="714240"/>
            <a:ext cx="7086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Roman map 8  8 AD"/>
          <p:cNvPicPr/>
          <p:nvPr/>
        </p:nvPicPr>
        <p:blipFill>
          <a:blip r:embed="rId1"/>
          <a:stretch/>
        </p:blipFill>
        <p:spPr>
          <a:xfrm>
            <a:off x="1028880" y="714240"/>
            <a:ext cx="7086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Rome,%20Ancient%20animation"/>
          <p:cNvPicPr/>
          <p:nvPr/>
        </p:nvPicPr>
        <p:blipFill>
          <a:blip r:embed="rId1"/>
          <a:stretch/>
        </p:blipFill>
        <p:spPr>
          <a:xfrm>
            <a:off x="1295280" y="304920"/>
            <a:ext cx="6811920" cy="4068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60020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Rome Expand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Roman map 10 116 AD"/>
          <p:cNvPicPr/>
          <p:nvPr/>
        </p:nvPicPr>
        <p:blipFill>
          <a:blip r:embed="rId1"/>
          <a:stretch/>
        </p:blipFill>
        <p:spPr>
          <a:xfrm>
            <a:off x="857160" y="714240"/>
            <a:ext cx="742968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057400" y="1066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eriod 27 BCE-180 AD (the last two maps) is known as th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14400" y="2971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stellar"/>
              </a:rPr>
              <a:t>PAX ROMANA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1 CuadroTexto"/>
          <p:cNvSpPr/>
          <p:nvPr/>
        </p:nvSpPr>
        <p:spPr>
          <a:xfrm>
            <a:off x="393840" y="55627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x Romana = Roman Pea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s was a time of great peace and prosperity for the Roman empire (included 3 million square miles and population was 60-80 million, with 1 million in Rom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066680" y="304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this perio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0" y="1523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ans thought they were the entire civilized wor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0" y="3352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pulation of the city of Rome reached 1 mill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 increased, bringing a wealth of resources into 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0" y="5181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rts flourish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0" y="2438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e enjoyed military domin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aesar"/>
          <p:cNvPicPr/>
          <p:nvPr/>
        </p:nvPicPr>
        <p:blipFill>
          <a:blip r:embed="rId1"/>
          <a:srcRect l="19718" t="-893" r="12980" b="0"/>
          <a:stretch/>
        </p:blipFill>
        <p:spPr>
          <a:xfrm>
            <a:off x="533520" y="1447920"/>
            <a:ext cx="2014560" cy="4190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2133720" y="533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tellar"/>
              </a:rPr>
              <a:t>Gallery of famous Roma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335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ius Caes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cleopatra"/>
          <p:cNvPicPr/>
          <p:nvPr/>
        </p:nvPicPr>
        <p:blipFill>
          <a:blip r:embed="rId2"/>
          <a:stretch/>
        </p:blipFill>
        <p:spPr>
          <a:xfrm>
            <a:off x="3048120" y="1143000"/>
            <a:ext cx="2835000" cy="3581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3124080" y="518148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c Antony with Egyptian Queen Cleopatra  (Hollywood styl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augustus"/>
          <p:cNvPicPr/>
          <p:nvPr/>
        </p:nvPicPr>
        <p:blipFill>
          <a:blip r:embed="rId3"/>
          <a:stretch/>
        </p:blipFill>
        <p:spPr>
          <a:xfrm>
            <a:off x="6400800" y="2133720"/>
            <a:ext cx="2471760" cy="2819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6400800" y="53341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avian (“Augustus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taly Topographical Map"/>
          <p:cNvPicPr/>
          <p:nvPr/>
        </p:nvPicPr>
        <p:blipFill>
          <a:blip r:embed="rId1"/>
          <a:stretch/>
        </p:blipFill>
        <p:spPr>
          <a:xfrm>
            <a:off x="285840" y="228600"/>
            <a:ext cx="455292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85840" y="5181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Talk Topography and Geograp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19112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286000" y="5880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v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1 CuadroTexto"/>
          <p:cNvSpPr/>
          <p:nvPr/>
        </p:nvSpPr>
        <p:spPr>
          <a:xfrm>
            <a:off x="4952880" y="7282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ng peninsula shaped like a boo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2 CuadroTexto"/>
          <p:cNvSpPr/>
          <p:nvPr/>
        </p:nvSpPr>
        <p:spPr>
          <a:xfrm>
            <a:off x="4952880" y="130896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o is the principal river on the peninsula.  It flows from the Alps in the west and crosses the Padan plain before emptying into the Adriatic Se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3 CuadroTexto"/>
          <p:cNvSpPr/>
          <p:nvPr/>
        </p:nvSpPr>
        <p:spPr>
          <a:xfrm>
            <a:off x="4952880" y="293616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enine Mountains traverse entire peninsula north to south.  Also, the Alps form Italy’s northern boundar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taly Topographical Map"/>
          <p:cNvPicPr/>
          <p:nvPr/>
        </p:nvPicPr>
        <p:blipFill>
          <a:blip r:embed="rId1"/>
          <a:stretch/>
        </p:blipFill>
        <p:spPr>
          <a:xfrm>
            <a:off x="457200" y="304920"/>
            <a:ext cx="5143680" cy="5165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2860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e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pennines Mts: more fertile land &amp; river ac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1 CuadroTexto"/>
          <p:cNvSpPr/>
          <p:nvPr/>
        </p:nvSpPr>
        <p:spPr>
          <a:xfrm>
            <a:off x="6172200" y="45720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confluence of Aniene and Tiber Rivers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e was built on seven rolling hills at a curve on the Tiber River near the center of the Italian peninsul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447920" y="990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arly Romans were mostly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470480" y="5270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http://blog.cvsd.k12.pa.us/poplicola/files/2011/11/relief02.jpg"/>
          <p:cNvPicPr/>
          <p:nvPr/>
        </p:nvPicPr>
        <p:blipFill>
          <a:blip r:embed="rId1"/>
          <a:stretch/>
        </p:blipFill>
        <p:spPr>
          <a:xfrm>
            <a:off x="4343400" y="1981080"/>
            <a:ext cx="43340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historylink102.com/rome-pic/roman-pesant.jpg"/>
          <p:cNvPicPr/>
          <p:nvPr/>
        </p:nvPicPr>
        <p:blipFill>
          <a:blip r:embed="rId2"/>
          <a:stretch/>
        </p:blipFill>
        <p:spPr>
          <a:xfrm>
            <a:off x="914400" y="2362320"/>
            <a:ext cx="2610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Roman map 1  600 BC"/>
          <p:cNvPicPr/>
          <p:nvPr/>
        </p:nvPicPr>
        <p:blipFill>
          <a:blip r:embed="rId1"/>
          <a:stretch/>
        </p:blipFill>
        <p:spPr>
          <a:xfrm>
            <a:off x="685800" y="380880"/>
            <a:ext cx="3809880" cy="4762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748040" y="258840"/>
            <a:ext cx="43959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00 BC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tellar"/>
              </a:rPr>
              <a:t>Etruscans</a:t>
            </a: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quer 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748040" y="1630440"/>
            <a:ext cx="38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ans adopt Etruscan alphabet, art, gods, building techniques (including the arc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arch3"/>
          <p:cNvPicPr/>
          <p:nvPr/>
        </p:nvPicPr>
        <p:blipFill>
          <a:blip r:embed="rId2"/>
          <a:stretch/>
        </p:blipFill>
        <p:spPr>
          <a:xfrm>
            <a:off x="6970680" y="3187800"/>
            <a:ext cx="1647720" cy="1904760"/>
          </a:xfrm>
          <a:prstGeom prst="rect">
            <a:avLst/>
          </a:prstGeom>
          <a:ln w="0">
            <a:noFill/>
          </a:ln>
        </p:spPr>
      </p:pic>
      <p:sp>
        <p:nvSpPr>
          <p:cNvPr id="73" name="1 CuadroTexto"/>
          <p:cNvSpPr/>
          <p:nvPr/>
        </p:nvSpPr>
        <p:spPr>
          <a:xfrm>
            <a:off x="685800" y="5562720"/>
            <a:ext cx="7953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 groups battle for control of the Italian Peninsula – Latins, Greeks, Etrusca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truscans native to northern Italy – skilled metalworkers and engine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00 BC – an Etruscan became king of Rome – allowed Rome to grow from a collection of hilltop villages to a city that covered 500 square mil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Roman Battle"/>
          <p:cNvPicPr/>
          <p:nvPr/>
        </p:nvPicPr>
        <p:blipFill>
          <a:blip r:embed="rId1"/>
          <a:stretch/>
        </p:blipFill>
        <p:spPr>
          <a:xfrm>
            <a:off x="2362320" y="380880"/>
            <a:ext cx="478764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04920" y="914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509 BCE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7149960" y="2908440"/>
            <a:ext cx="160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mans overthrew the Etrusca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1 CuadroTexto"/>
          <p:cNvSpPr/>
          <p:nvPr/>
        </p:nvSpPr>
        <p:spPr>
          <a:xfrm>
            <a:off x="304920" y="5638680"/>
            <a:ext cx="844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t Etruscan king was Tarquin the Proud – very harsh tyrant who was driven from power by the Roma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omans declare they will never be ruled again by a king – leads to the establishment of the REPUBLI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219320" y="6858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interesting to note that this was the precise time that we think of Greece as entering its Classical E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Parthenon"/>
          <p:cNvPicPr/>
          <p:nvPr/>
        </p:nvPicPr>
        <p:blipFill>
          <a:blip r:embed="rId1"/>
          <a:stretch/>
        </p:blipFill>
        <p:spPr>
          <a:xfrm>
            <a:off x="1219320" y="1752480"/>
            <a:ext cx="69627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3:24:26Z</dcterms:created>
  <dc:creator>SSG</dc:creator>
  <dc:description/>
  <dc:language>en-US</dc:language>
  <cp:lastModifiedBy>Salvador</cp:lastModifiedBy>
  <dcterms:modified xsi:type="dcterms:W3CDTF">2012-06-03T16:28:53Z</dcterms:modified>
  <cp:revision>40</cp:revision>
  <dc:subject/>
  <dc:title>Presentación de PowerPoint</dc:title>
</cp:coreProperties>
</file>